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2885-0808-4A4F-BCF5-AA683B379B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CE67-4256-41E8-B10B-8E959489425C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D5CC-0796-4BB6-A3DB-FF88BCF0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F927-81B0-4904-98C0-DE018C27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0F6B-4C4B-42CA-AAA9-7148CF6D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DC8B-FD7C-409E-8363-DAA9D435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554B-3BDB-476B-AA55-EE8D970D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3CAB-E7C6-418A-B2FE-B98F6998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6FC7-2546-43CA-A656-49F3BB3D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3D03-FD30-48B2-A66D-4D660BED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D650-A242-45C5-AB35-BA86BBB3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7145-A6D5-4B6D-BC75-196A30AC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757C-E31E-4F39-BC1E-4B38DAA4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3EBC-D29F-45D4-9989-156CC30D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E19F-BC27-4DD2-B1D9-CCEEC3EF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5D59-8B9E-4687-87F4-09B58A52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E4CB-0E9A-4729-BAED-BDF91351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E2D6-3BDE-4A94-AAAB-F35C5336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DE26-1753-4B81-BF60-01313E89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200E1-D012-4B58-89F9-49C64E08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C8B5ED-56C0-46CA-8C27-8E1294F3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50E1E-7B7B-4B94-980F-DDBD9517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E4BE3-0700-4273-979C-6CC11827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ADF9A3-501F-4C90-9EBF-F9AFF61D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6D63-8038-4C07-871D-4F53B487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AC3AAB-895E-4604-8585-F467B93D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C638C2-02BB-440F-947B-AE8E088F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EBC676-6554-46B4-A0A5-8DB4CB5C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C9748-D1E3-4BF5-AD91-BA7CBD52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02F0D-2106-4D92-8328-1D1F93E0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7BAC13-D2D8-4922-80E8-97F5338A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0333E-32DB-4ECC-B93F-8F4B4918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8495D1-04E5-4BD7-ABD9-F20EF8CE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44FEF9-756D-4D3C-BABE-AF7D24F9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5C1DE5-F621-46DC-923A-10662452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A9B2-23AC-4E74-B9D9-296B0D66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627FEB-2B9D-472D-8AC8-F0DF9ADF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D6967E-6A5A-4733-A942-1B873153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4F451C-3FCC-401E-B547-8D432C54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C697AB-B631-4898-B750-B2A5F1BE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55F985-97DE-477F-BA73-6BE5AF6D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DA9B10-99ED-4B76-B52A-56D98CF3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DC2DF4-71C9-48DD-83FD-6D2F883A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4CBC61-AA55-47C4-9E6C-5CAE3769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04EED0-8259-4515-8E83-9B4F1518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C588B6-4438-4B69-A4CA-649AFE8F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8BE8-780C-47F3-BC27-6D80BA93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FA6009-B87E-4EC8-9552-15E4448C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C72042-2467-4504-8DAA-CD6C2223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E7E189-9E53-488D-B1BE-336DEBF0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21B117-BB38-4BAD-8AB2-00FA08BE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87CDEC-DE46-45C5-84D5-15BDFCEE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A9187F-403C-4A49-933A-6E0034D3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0EFB1C-C2CF-4ACF-B994-089BC5F4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FDD1A2-7CF9-4637-845E-2353E686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93D056-9A64-436F-B406-BE8D8E9D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E4E2B4-B858-4CBA-976B-59888CE0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15FB-4A29-4A05-A737-B6297C16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5EBD0F-310D-45F0-9727-90D3EA43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33169-55B1-4FC8-A4C0-DB221D85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25B3B-0A93-4B87-9CD7-337149DE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6ADED-6BBE-4137-803D-B4EE2F6A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7F2B6-9DB0-4BAC-BB26-1D92C4AE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DC912-C758-47BA-9E4E-A80C4362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9413D-237B-4CDD-B766-3C8F8925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FD420-88FE-44A7-B859-1B66D82A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0C639-9F17-4977-9DA0-1DB23F2F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8C178-2649-4E57-93AD-49918C3A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A368-EB13-4EA2-99D8-5346AB00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00A6B-A091-4096-9A32-2D726E4C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B364E-C334-4BD0-A972-8C1094EF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D9613-7BF7-4ACB-9848-40B3F86A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0832F7-A235-4C89-81E0-EE5A01C1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5EE14E-D7FC-4310-A9A5-B1850987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7A128A-D877-4535-A5F6-B068C84F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551362-F7B7-4FDD-BD52-52D449DE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24D045-B239-4833-B098-A707BFDC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AE8AFC-D780-47C1-8544-75873684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166EDA-6924-4CE4-A978-0C8BFDB6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62E6-564F-49B5-8992-F1B3E06E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C8D269-5AA2-40FF-A2EE-4B3C848D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C547AB-2CF2-4557-8807-E4208A32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D9F488-121A-4A82-ACAE-A81F4AF3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E83619-B3FF-4070-BFA1-D2649968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3A57DE-0FE2-4D97-8F6F-F20C0F82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969D2-EA26-4BAF-A588-528559EE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B0CD5-361C-4904-B7B5-EBD8E8E1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0BCDA-47F5-4B6D-AA25-252BB5EA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93D1F-CA8B-4707-ADC5-234E296B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F377F-C06A-4B0E-9B42-990DBFCB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1ED8-2794-4630-8C2D-47660EEB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BD1F9-1C71-4EB5-9F04-8CEBB17D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9D722-C32E-4F93-941F-905365EA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0D8DB-417F-4C64-B721-79EE8DC4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D2288-C750-4824-B397-93267A3F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AD890-0C51-4F1E-91B4-9E3F4E50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4535A-4F85-414F-B0E6-BDB505FA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DC7A5-2ED0-4AFA-85A0-06064B87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2DF9-446B-4210-9A44-8A92AE69F49E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52D1-793D-4DF1-90C2-6FE907CF32F3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0810-E3E3-439E-A1A9-ED21D986A1C6}" type="datetime">
              <a:rPr b="0" lang="fr-FR" sz="21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59C5-247F-42D5-8DE2-B2660199F09B}" type="slidenum">
              <a:rPr b="1" lang="fr-FR" sz="16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85A3-6A95-462A-8FD0-B5228F2A689D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707D-25AD-4D40-9B82-69F3630A3B6C}" type="slidenum">
              <a:rPr b="1" lang="fr-FR" sz="2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7538-24B8-4B01-8F5C-82307724321F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2FAB-8A5D-4001-A9DD-43C68504A079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AB03-34EC-4727-B214-51AB53EED4CB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3FC6-D91F-44F1-80FD-911F4536AF43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4A7A-93F1-4F02-8991-3877094144AB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B66A-C089-46B9-900C-1D67F0090285}" type="slidenum">
              <a:rPr b="1" lang="fr-FR" sz="16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07DC-4856-4D59-BA44-803778D6F7DE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727B-4CAA-4C15-96F9-89A1F0B0B21B}" type="slidenum">
              <a:rPr b="1" lang="fr-FR" sz="2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E2F6-EDFF-4928-BB56-1FEC6763E9A1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5893-4CCD-44B6-8BCD-F2FE10EEE794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Recto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Fiche%20de%20prise%20en%20charge%20Hospitali&#232;re.doc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000920" cy="900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58bb8"/>
                </a:solidFill>
                <a:latin typeface="comic"/>
              </a:rPr>
              <a:t>PRÉSENTATION MSU/LB</a:t>
            </a:r>
            <a:r>
              <a:rPr b="0" lang="fr-FR" sz="4100" spc="-1" strike="noStrike">
                <a:solidFill>
                  <a:srgbClr val="558bb8"/>
                </a:solidFill>
                <a:latin typeface="Tw Cen MT"/>
              </a:rPr>
              <a:t> </a:t>
            </a:r>
            <a:endParaRPr b="0" lang="en-US" sz="41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899640" y="1915920"/>
            <a:ext cx="7272360" cy="865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62626"/>
                </a:solidFill>
                <a:latin typeface="Tw Cen MT"/>
              </a:rPr>
              <a:t>Atelier sur l’Assurance Maladie Universelle</a:t>
            </a:r>
            <a:br>
              <a:rPr sz="800"/>
            </a:b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62626"/>
                </a:solidFill>
                <a:latin typeface="Tw Cen MT"/>
              </a:rPr>
              <a:t>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Tw Cen MT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76320" y="606888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EEEE-2D77-431B-89BA-116F03FB9572}" type="datetime">
              <a:rPr b="0" lang="fr-FR" sz="2100" spc="-1" strike="noStrike">
                <a:solidFill>
                  <a:srgbClr val="ffffff"/>
                </a:solidFill>
                <a:latin typeface="Arial"/>
                <a:ea typeface="Arial"/>
              </a:rPr>
              <a:t>30/07/26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6B62-9605-4056-9DA9-809B741B0F11}" type="slidenum">
              <a:rPr b="1" lang="fr-FR" sz="1600" spc="-1" strike="noStrike">
                <a:solidFill>
                  <a:srgbClr val="ebddc3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377" name="ZoneTexte 1"/>
          <p:cNvSpPr/>
          <p:nvPr/>
        </p:nvSpPr>
        <p:spPr>
          <a:xfrm>
            <a:off x="539640" y="3933720"/>
            <a:ext cx="7993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262626"/>
                </a:solidFill>
                <a:latin typeface="Tw Cen MT"/>
              </a:rPr>
              <a:t>Expérience de la Mutuelle de Santé Urbaine Laafi Baoré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900" spc="-1" strike="noStrike">
                <a:solidFill>
                  <a:srgbClr val="262626"/>
                </a:solidFill>
                <a:latin typeface="Tw Cen MT"/>
              </a:rPr>
              <a:t>                                                                                             </a:t>
            </a:r>
            <a:r>
              <a:rPr b="1" i="1" lang="fr-FR" sz="1900" spc="-1" strike="noStrike">
                <a:solidFill>
                  <a:srgbClr val="262626"/>
                </a:solidFill>
                <a:latin typeface="Tw Cen MT"/>
              </a:rPr>
              <a:t>Par Marcel Z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262626"/>
                </a:solidFill>
                <a:latin typeface="Tw Cen MT"/>
              </a:rPr>
              <a:t>                                                                                                                                                                    </a:t>
            </a:r>
            <a:r>
              <a:rPr b="1" i="1" lang="fr-FR" sz="2000" spc="-1" strike="noStrike" u="sng">
                <a:solidFill>
                  <a:srgbClr val="262626"/>
                </a:solidFill>
                <a:uFillTx/>
                <a:latin typeface="Tw Cen MT"/>
              </a:rPr>
              <a:t>Président du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8" descr=""/>
          <p:cNvPicPr/>
          <p:nvPr/>
        </p:nvPicPr>
        <p:blipFill>
          <a:blip r:embed="rId1"/>
          <a:stretch/>
        </p:blipFill>
        <p:spPr>
          <a:xfrm>
            <a:off x="742968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696080" cy="736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II. Prestations prises en charge suite 3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A043-A49D-4DA9-9713-AB8F69B5C7EC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D303-AB83-4E3C-A8C9-F718186E0807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56760" y="1571400"/>
            <a:ext cx="8425080" cy="4786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Tw Cen MT"/>
              </a:rPr>
              <a:t>Dans les CMA, CMU et CHU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consultations généralistes et spécialisé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analyses de labo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soins dentaires sans prothès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soins ophtalmologiques sans lunett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opérations chirurgica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hospitalisations chirurgical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hospitalisations médical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’accouchement dystociqu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frais d’hôtellerie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8" descr=""/>
          <p:cNvPicPr/>
          <p:nvPr/>
        </p:nvPicPr>
        <p:blipFill>
          <a:blip r:embed="rId1"/>
          <a:stretch/>
        </p:blipFill>
        <p:spPr>
          <a:xfrm>
            <a:off x="7500960" y="142920"/>
            <a:ext cx="1571760" cy="107136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153280" cy="714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V. Statistiques d’évolution de la MSU/LB 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214200" y="1214280"/>
          <a:ext cx="8715600" cy="564372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452600"/>
                <a:gridCol w="1452600"/>
                <a:gridCol w="1452600"/>
                <a:gridCol w="14526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dhér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énéfici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tisation recouvr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 016 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 957 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903 7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 123 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752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ise en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990 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785 5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 421 7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 847 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027 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br de c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fréqu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3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,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6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recouv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5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9.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6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0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sinistra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93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  <p:sp>
        <p:nvSpPr>
          <p:cNvPr id="426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7521-FB30-4567-9E28-D13FB86DB541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8" descr=""/>
          <p:cNvPicPr/>
          <p:nvPr/>
        </p:nvPicPr>
        <p:blipFill>
          <a:blip r:embed="rId1"/>
          <a:stretch/>
        </p:blipFill>
        <p:spPr>
          <a:xfrm>
            <a:off x="7429680" y="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783936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V. Difficultés rencontrées et recommandation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6BDB-977E-48EF-9016-1B36B6E64053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8113-05E2-464C-BB78-6C64E396F3E9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3000"/>
          </a:bodyPr>
          <a:p>
            <a:pPr marL="320400" indent="-32040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ifficulté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Surconsommation et surprescrip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 non respect de la convention par les centres de santé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Transmission tardive des factures dont accumulation de factures parfois d’un an et même plus pour certain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 manque de collaboration et le mauvais traitement de certains agents de santé vis-à-vis des mutualist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a forte demande par les bénéficiaires des produits de spécialités (ceci entraine le désintérêt de la population et la désinscription des membres)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8" descr=""/>
          <p:cNvPicPr/>
          <p:nvPr/>
        </p:nvPicPr>
        <p:blipFill>
          <a:blip r:embed="rId1"/>
          <a:stretch/>
        </p:blipFill>
        <p:spPr>
          <a:xfrm>
            <a:off x="7429680" y="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783936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V. Difficultés rencontrées et recommandation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5584-E51D-47E4-8582-9F3841B238AA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7CA4-509F-4056-AC82-873FCD07274A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9000"/>
          </a:bodyPr>
          <a:p>
            <a:pPr marL="306360" indent="-30636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Recommand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Mettre des médecins conseil à la disposition des mutuel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Appuyer les mutuelles dans la sensibilisation des agents de santé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Enseigner des modules sur l’assurance maladie et les mutuelles de santé des écoles de formation de santé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Travailler à la disponibilité des MEG et sensibiliser la population à leur consommation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Renforcer les capacités des responsables et gestionnaires des mutuelles de santé sur le PCMS de l’UEMOA, la loi sur la mutualité sociale du Burkina et l’AMU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F412-8E6C-479B-BE6D-52910DF308B2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E84E-EE96-4FF2-B304-142F203D450D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900" spc="-1" strike="noStrike">
                <a:solidFill>
                  <a:srgbClr val="009900"/>
                </a:solidFill>
                <a:latin typeface="comic"/>
              </a:rPr>
              <a:t>Merci de votre aimable  attention!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comic"/>
              </a:rPr>
              <a:t>Laafi Baoré, S’unir aujourd'hui pour garantir demain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comic"/>
              </a:rPr>
              <a:t>Contacts: 25 36 15 25/71 80 07 97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Tw Cen MT"/>
              </a:rPr>
              <a:t>Mail: msu.laafibaore@yahoo.fr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2" name="Picture 8" descr=""/>
          <p:cNvPicPr/>
          <p:nvPr/>
        </p:nvPicPr>
        <p:blipFill>
          <a:blip r:embed="rId1"/>
          <a:stretch/>
        </p:blipFill>
        <p:spPr>
          <a:xfrm>
            <a:off x="7572240" y="21420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PLAN DE PRESENTATION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B5DC-9B43-4B4A-BED2-156E07CC05D4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A8CB-AA22-495E-B602-7C163B72B936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95280" y="2133360"/>
            <a:ext cx="8424720" cy="266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Naissance de la MSU-LB 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Conditions d’adhésion et de prise en char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Prestations prises offer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Statistiques sur l’évolution de la MSU-LB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ifficultés rencontrées et recommand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2" name="Picture 8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7696080" cy="723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. NAISSANCE DE LA MSU.LB  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4A14-94F8-4D10-AB1E-2D78423420E6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14B9-333A-41F8-A7B8-060014ED6601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57120" y="128556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9000"/>
          </a:bodyPr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Née de la volonté d’un certain nombre d’organisation de la société civile et d’entreprises (08)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Réalisée son étude de faisabilité sous la houlette du RAMS.BF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Tenue de son AGC le 30 juin 2006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Le lancement officiel 28 février 2007 au CMA du 30 sous la présidence du MTSS et le parrainage du Maire de la Commune de Ouagadougou de l’époqu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ébut des prestations en 1</a:t>
            </a:r>
            <a:r>
              <a:rPr b="0" lang="fr-FR" sz="2900" spc="-1" strike="noStrike" baseline="30000">
                <a:solidFill>
                  <a:srgbClr val="000000"/>
                </a:solidFill>
                <a:latin typeface="Tw Cen MT"/>
              </a:rPr>
              <a:t>er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 avril 200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7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85880" y="428760"/>
            <a:ext cx="7696080" cy="72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. NAISSANCE DE LA MSU.LB (suite)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FCD6-A255-4937-954C-71CCEA454926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B44F-BD8F-4D8B-979B-295CD7A8A7ED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57120" y="1714680"/>
            <a:ext cx="8175600" cy="4665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4000"/>
          </a:bodyPr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 public cible de départ était constitué des membres des organisations mères de la mutuell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Chaque organisation a constitué une section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Au sein de chaque section il y a un bureau de la MSU-LB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Ce bureau est chargé de l’animation, l’enregistrement de nouveaux adhérents, de collecte des cotisations et de la gestion de la section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Une section (inter pro) s’est créée qui regroupe des personnes n’appartenant à aucune de ces organisation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Toutes les adhésions et cotisations sont reversées à l’unité gestio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2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7696440" cy="107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3D34-1426-43DA-A19E-0BFD399D3F7A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1613-D6C4-439D-B894-1DA70DB617F8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8000" y="1988640"/>
            <a:ext cx="8351640" cy="431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3000"/>
          </a:bodyPr>
          <a:p>
            <a:pPr marL="320400" indent="-32040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Tw Cen MT"/>
              </a:rPr>
              <a:t>Conditions d’adhésion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aiement de frais d’adhésion de 2 500 frs pour une famille de 5 personnes (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adhérent + conjoint + enfants à charge de moins de 18 ans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Versement de cotisation de 12 000 frs par personne et par an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Verser au moins 6 mois de cotisation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pporter une copie simple d’extrait de naissance ou CNIB ou passeport et une photo de chaque inscrit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8" descr=""/>
          <p:cNvPicPr/>
          <p:nvPr/>
        </p:nvPicPr>
        <p:blipFill>
          <a:blip r:embed="rId1"/>
          <a:stretch/>
        </p:blipFill>
        <p:spPr>
          <a:xfrm>
            <a:off x="7572240" y="142920"/>
            <a:ext cx="13575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8" descr=""/>
          <p:cNvPicPr/>
          <p:nvPr/>
        </p:nvPicPr>
        <p:blipFill>
          <a:blip r:embed="rId1"/>
          <a:stretch/>
        </p:blipFill>
        <p:spPr>
          <a:xfrm>
            <a:off x="7429680" y="21420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760" y="404280"/>
            <a:ext cx="8029440" cy="86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suite1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1BB3-4DBA-4512-871B-A33DFF801CC9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0722-0CC6-4BA5-99FF-E906D091AC3E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95280" y="1628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Tw Cen MT"/>
              </a:rPr>
              <a:t>Conditions de prise en charge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Observer une période de stage de 03 mo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Se rendre dans une des 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26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 formations sanitaires conventionnées (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10 CSPS, 6 CM, 3 CMU, 5 CMA, l’OST et le CHU-YO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ccepter la prise en charge de 70%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résenter sa </a:t>
            </a:r>
            <a:r>
              <a:rPr b="0" lang="fr-FR" sz="27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carte 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de memb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ayer un ticket modérateur de 30%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8" descr=""/>
          <p:cNvPicPr/>
          <p:nvPr/>
        </p:nvPicPr>
        <p:blipFill>
          <a:blip r:embed="rId1"/>
          <a:stretch/>
        </p:blipFill>
        <p:spPr>
          <a:xfrm>
            <a:off x="7572240" y="142920"/>
            <a:ext cx="1571760" cy="10713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774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</a:t>
            </a:r>
            <a:br>
              <a:rPr sz="2800"/>
            </a:b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suite2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0CA9-4ABB-42F1-B10E-3C39ED4337E8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7E0D-CC89-47AF-96D0-7E0C1BC33E66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56760" y="1785600"/>
            <a:ext cx="8286840" cy="4403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lvl="1" marL="340920" indent="-340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Tw Cen MT"/>
              </a:rPr>
              <a:t>Circuit de prise en charge 1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résenter votre carte de membre au guichet de la formation sanitaire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a prise en charge au CHU-YO est faite sur présentation d’une </a:t>
            </a:r>
            <a:r>
              <a:rPr b="0" lang="fr-FR" sz="25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fiche de PEC </a:t>
            </a: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délivrée par l’UG,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ayer les 30% de vos frais médicaux: consultation, examen, hospitalisation…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En cas d’ordonnance présentez votre carte au dépôt pharmaceutique de la formation sanitaire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ayer les 30% des frais d’ordonnances (MEG)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0920" indent="-340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suite3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0EDB-D0DE-4FBE-ADEF-2FB60CB057F9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5FC6-318C-408E-B379-3ACCFF594455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28760" y="1904760"/>
            <a:ext cx="8501040" cy="4476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7000"/>
          </a:bodyPr>
          <a:p>
            <a:pPr lvl="1" marL="334080" indent="-33408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w Cen MT"/>
              </a:rPr>
              <a:t>Circuit de prise en charge 2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En cas de rupture de médicaments au dépôt,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chetez vos médicaments dans une pharmacie de la place à la totalité du montan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dressez une demande de remboursement au PCA de la MSU/LB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54360" indent="-238320">
              <a:spcBef>
                <a:spcPts val="53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9900"/>
                </a:solidFill>
                <a:latin typeface="Tw Cen MT"/>
              </a:rPr>
              <a:t>Pièces jointes (reçu d’achat, ordonnances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54360" indent="-238320">
              <a:spcBef>
                <a:spcPts val="53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9900"/>
                </a:solidFill>
                <a:latin typeface="Tw Cen MT"/>
              </a:rPr>
              <a:t>Même procédure si vous n’a pas été traité en que mutualiste (en cas d’oubli de votre carte par exemple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6200" indent="-286200">
              <a:spcBef>
                <a:spcPts val="624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696080" cy="934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II. Prestations prises en charge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6DAC-E6E9-4D67-A02C-4035AB7B13D5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30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C4B0-5DB3-4A13-A593-5438DA6CB727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9528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1"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Tw Cen MT"/>
              </a:rPr>
              <a:t>Dans les CSPS, CM (Les soins ambulatoires)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s soins ambulatoires : consultation curative, soins infirmiers, petite chirurgie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s Médicaments essentiels génériques (M.E.G.) de la liste nationale des médicaments essentiels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’accouchement normal 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a mise en observation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’évacuation vers le centre de référence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1:03:26Z</dcterms:created>
  <dc:creator>NOMBRE B.</dc:creator>
  <dc:description/>
  <dc:language>en-US</dc:language>
  <cp:lastModifiedBy>Poste 12</cp:lastModifiedBy>
  <dcterms:modified xsi:type="dcterms:W3CDTF">2015-06-09T08:42:55Z</dcterms:modified>
  <cp:revision>117</cp:revision>
  <dc:subject/>
  <dc:title>Présentation MSU/LB</dc:title>
</cp:coreProperties>
</file>